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569-6D79-4A07-AE63-5192591E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06C-147D-4A48-9DA8-AA440E2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EBB-1EA0-4CA5-8EC0-0E6C37EB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712-F312-49AD-9600-B7DEB9EE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4D1-D9C0-4C02-8300-FAF1D5DE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251-8100-4792-B14A-B86AD02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7E3-6E1C-41B7-888D-0282150C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D5A-F12A-4A0A-BFF6-CC3580C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F58-407B-487E-96BA-3961FDA0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6DD-353F-41FF-8DC2-895DD3B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AB4-EA59-42B8-ADEF-4A9A99B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DAA-83C1-4AC7-98FD-245B62AD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9B02-978A-4FBE-883C-E5C976CB7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0/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24:31Z</dcterms:modified>
  <cp:revision>2</cp:revision>
  <dc:subject/>
  <dc:title>Présentation PowerPoint</dc:title>
</cp:coreProperties>
</file>